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EC03-72F7-409A-98A9-32E57CC5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D4A2-AB62-4E29-BDCE-5A39919B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B2C5-07D3-4820-A152-47A04F8E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69B5-37A5-4CD7-B695-FC8AE53D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8406-8A0A-4C92-9AFB-F6B64F02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D293-770D-4844-B02A-5D18BDF0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9E5-ABBC-4928-B838-DC5E8F16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3F55-7167-4CF3-B152-AF1056EE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8754-924D-4329-8575-9DB874F2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AA0A-5C5A-4207-86D3-626F66D3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70EE-8E10-467D-A131-2FA9A80A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8F73-C3C3-4B9F-9496-F0E31579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4DAA-F693-469B-8A22-6892E1214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3095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STE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ERVI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external image 1Sistema_nervioso_web.jpg"/>
          <p:cNvPicPr/>
          <p:nvPr/>
        </p:nvPicPr>
        <p:blipFill>
          <a:blip r:embed="rId1"/>
          <a:stretch/>
        </p:blipFill>
        <p:spPr>
          <a:xfrm>
            <a:off x="4284720" y="222120"/>
            <a:ext cx="4051080" cy="6635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4000" y="1682640"/>
            <a:ext cx="3816360" cy="491184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odemos considerar que el sistema nervioso se organiza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Sistema nervioso central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, formado por el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encéfalo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(cerebro, cerebelo, tronco cerebral y bulbo raquídeo) y la médula esp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Sistema nervioso periférico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, formado por los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nervios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(craneales y raquídeos) y los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receptores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, situados en los órganos de los sent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ambién pueden considerarse como parte del sistema nervioso periférico las inervaciones de los múscu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STE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ERVIOSO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2394000"/>
          <a:ext cx="4037040" cy="29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94000"/>
                    <a:ext cx="4037040" cy="29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648320" y="1884240"/>
            <a:ext cx="40384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STEMA NERVIOSO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4464000" cy="298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78360" y="2205000"/>
            <a:ext cx="3622680" cy="3773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11280" y="3814920"/>
            <a:ext cx="345600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STEMA NERVIOSO (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40352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STEMA ENDOCR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1044720"/>
            <a:ext cx="720108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PARATIVA SISTEMA NERVIOSO / SISTEMA ENDOCR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200240"/>
          <a:ext cx="8229600" cy="4790880"/>
        </p:xfrm>
        <a:graphic>
          <a:graphicData uri="http://schemas.openxmlformats.org/drawingml/2006/table">
            <a:tbl>
              <a:tblPr/>
              <a:tblGrid>
                <a:gridCol w="2314440"/>
                <a:gridCol w="2808360"/>
                <a:gridCol w="3106800"/>
              </a:tblGrid>
              <a:tr h="112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STEMA NERVIO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STEMA ENDOCR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mens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ÉCTRICO, CORRIENTE NERVIO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ÍMICO, HORMO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ía de propagación del mens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LOS NERV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LA SANG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dad del mens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ÁPIDA, CASI INSTANTÁN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LEN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A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LONG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USCULATURA ESQUELÉ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09960" y="836640"/>
            <a:ext cx="49496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58920" y="977760"/>
            <a:ext cx="6265800" cy="5481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1159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RTICU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SQUE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5589720"/>
            <a:ext cx="358920" cy="372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4416480" cy="6021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883040" y="1628640"/>
            <a:ext cx="409752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2T17:39:44Z</dcterms:created>
  <dc:creator>Rafael</dc:creator>
  <dc:description/>
  <dc:language>en-US</dc:language>
  <cp:lastModifiedBy>Rafael</cp:lastModifiedBy>
  <dcterms:modified xsi:type="dcterms:W3CDTF">2014-03-03T18:53:06Z</dcterms:modified>
  <cp:revision>3</cp:revision>
  <dc:subject/>
  <dc:title>SISTEMA NERVIOSO</dc:title>
</cp:coreProperties>
</file>